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1D6-7445-4C1A-AB1E-C9F6080F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60A-16D3-47B5-93D7-247B202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0B083-541C-4D42-9615-B75B7990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B2093-9A89-4FDC-9F10-E9EAEBFF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97C6B-3D17-43C1-8A02-5520C0D5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B12D6-D240-45EE-B532-5EF6A9D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811F-1211-4D4D-82C5-DBD54B5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69C6C-AF45-41C6-91ED-55FEE42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CE786-1926-474B-A010-D2A11B5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F3CA7-89E2-484F-A61E-B962C3AC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6E9AB-9ECD-43E8-95C5-B91E1337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E5D59-7E53-4E8B-B8B7-EFA659E8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167-F7CA-456B-9E36-0006FC90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92417-1F12-4A87-B758-C53914F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FD822-1E97-4B6C-9F24-2FE3279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526D9-32CF-43D8-8FE6-2A74D2E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3972B-C0D9-4888-A7A7-E62FCD84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D84C3-C781-4051-8A81-4855AB7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D2F6E-3099-42BF-A5D0-667324F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E8D3C-1EAE-4666-BA68-D3FD5F8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753CE-E200-42B3-8AB1-E4BBA280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9711B-7B03-4F6A-85AD-909D9C3B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5CB82-BE43-4510-9660-6154E1B2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876-4978-4418-844C-136D5016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27C5C-7434-4F12-B66F-30A56E08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870FD-E5A7-4AF0-A5E7-D9C6EE58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98035-EA6C-40E8-8EA7-623F93BB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B0138-9583-4744-B3BB-D8DFE88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F3BD5-B831-49BF-929F-C516FA9A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7CA80-8E76-4C88-8FC6-1660FDCF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AFD0-C79D-469D-8982-BE0A30A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08F82-8711-45C4-A735-7D6830CB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69F11-406A-4464-B912-3AEB99E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44AB-C8AC-4555-AD58-3A35360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1BD7-28DA-453F-B180-0500E3AC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9E8BF-A705-40FB-BDD7-1936988A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06868-5AE1-466F-B8BB-517C764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65129-9162-4602-ACEC-CC59F576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8A42A-B8C4-46D6-BE56-06BAC9BF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A42E4-2AE1-4AC6-9430-998F96C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43C8A-847A-4058-BE06-E5214395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D6057-7CD1-481E-B936-1F17CE76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68482-4455-4853-BAEC-5259B55F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47DEA-8494-43CD-85BE-E4014506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F9347-62CF-4EDC-B3DD-7BA36DA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69FC-42C2-4C28-8BB5-B6E6F670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DF714-E094-4B8D-BC4A-AEC1EE5B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290F2-18FE-4325-99E1-A87534B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2BC54-A6A3-477B-8136-227BAE0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A032D-5FE1-41AC-A64C-24520ABF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BE103-C807-43AB-B34A-DC760CA6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6CF-64F4-433D-A349-AE70DA3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49B4-3EC8-44CD-BEDD-2DE0F449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C164-E258-4589-9524-C8215F9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153-8FE4-45FC-9EAC-81B5317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09F-64B2-4190-BA44-9E13538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A92-5B29-4523-843F-7E91A024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B31-0357-44CF-94FE-3A907782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AFE-A364-4D5E-8795-538076F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419A-BCF9-4CCE-8E48-E88784FD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34B-15BA-4FBF-879B-C16FE83C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78F9-3540-45BE-A7B7-4FD071C0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363B-B0AB-468B-8841-CC68D556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40DC-9A6E-4083-A8F0-2144E6A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77AB-27BC-4A7C-8CA4-0CF4A47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8978-772E-445A-A2ED-73D1072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B7DF-0BE0-4359-8DBB-876AD56A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238-E825-4562-82B2-E8CCEC88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7AB5-871D-44AF-92A0-CEE1D215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9DA6-FF4D-4DC4-9C66-9FCE2EB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8811-0BE5-4429-9C43-607DA38D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15E9-0A21-4C15-A490-9FD78F8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6DA5-906C-4B19-972D-F8925FF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346C-5580-4A73-92E0-1C4FE72F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0514-AF06-4EA0-9761-AC4A1830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C22A-FD06-479F-8FCB-EEDFE02D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1080-6BCE-4C93-A34C-420EDBCF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3BC5-6B7D-49D2-9321-E7EE616B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CCD-E050-4DC3-AF29-DEBE3A0F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B29D-DAC7-4285-9E9A-D8AB6B17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529E-F162-43EB-B1F8-235D54A9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B348-F1F9-421B-BC60-32A1405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3350-23AE-459D-8700-396450D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F262-DDEF-4075-BA09-6240139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0AC4-B39C-4B2E-80D6-272DE63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9B65-E085-46FF-A39E-5476BE1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C33C-D5AB-473C-8067-C78CE626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22BC-0E82-4E55-9BB8-23C53293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6D0B-5A93-4AE8-AD19-42185B0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1D6-01F6-4AA1-A6AE-5F647F0F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7A49-2B16-48F2-A8C1-252E1AD9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968B4-6205-47C1-A970-0796BE3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A98E-A838-47FA-AA56-5C1BA9B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78FF-9A0F-454D-8853-1C34C066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8D01-5199-41A8-9050-B59D871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44F2-C5BE-477B-A8C2-EA62DD72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A0C9-7522-4FC8-880E-E498F18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BCFF7-C8CA-49B0-AF54-D110BC9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E933-6B6D-4D34-B7F6-36A8A69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3A69C-FFA1-4788-8FB9-9ABA4661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050-EF4E-4DDE-964A-3D03EBF1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2974-6A42-4CFD-8CA8-BA042EA1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825B4-A0CB-4920-A0A7-DCE0186D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2C80-A474-4785-910D-7A3FF730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FCC6-0D7D-477F-94AA-AFF8B708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FF99-99F3-4B9E-88FF-8F8ED297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AFCB9-FE74-403F-8CED-B23D1BA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EBD0-6D95-496B-9F8F-9BBB0595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EF271-329C-4234-971A-E0CBAABD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1B2B-DF6A-46BF-A461-069376B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E58C-1647-4220-82EE-5B25C27D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3BF-8A35-4FB5-96E8-41C570C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32B8-A5AB-4C5C-AD90-8DC967A3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4ACB-3A4A-460D-9B0A-DF8AF054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0327-C4B6-42EF-9EC8-48062BC7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85FAD-F902-4953-BC90-CA5A0DD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26D74-920A-44EB-87A0-03F556B9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3FBB-A3C5-4F8C-BFC4-935AED48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DA923-AC2B-4398-9A98-087ED0D4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89CDA-42E6-4186-B2E0-9BF02056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2314-A825-4A79-9929-C8FE5849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921D-D232-4F9D-A6B0-42C1279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E75-29DB-4B79-8088-A69F04AC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13210-7F23-4A76-90A0-93A4E2F3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71F0C-DD6B-4BF2-B486-49CEA2A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291AD-896D-4AA0-B6D1-E2C35B5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DD33-D86A-486D-BA5E-92D907B9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CC748-58E7-4143-BC20-EF739A49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9DA32-1D26-4A9B-B1D1-04352058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6518B-7A75-4D18-97E5-52750C0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8B7C2-7249-4AB5-8980-83D5ED19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77281-5941-4273-9B91-296CF78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1A6EB-1EED-4DF6-AC36-74ABBFA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903-ECF3-4D76-AB26-7821A6D6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ADABB-827B-403E-9E2A-CEE4C427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C317F-CA99-4C2C-B446-8124932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6C0A-7468-4A91-8785-399A66E2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73FC-04E7-4871-9DE8-BED648D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8547-162D-4DCF-9188-EFE0346E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A0C80-9B37-4578-82E3-4E55FC74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D999F-011E-42C1-A62B-669DE489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02999-A5C2-49C9-8D48-FF49F99A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41629-C99F-4380-B689-92F9D08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57077-5EA4-4C3E-8B80-D9D1B3F7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6363-D2FC-412B-9404-D655115DAF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EBBF-A369-4D2D-90B5-0D90EC4B3A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DDBA-DBA4-4E3E-83DF-85B9D841A0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45A3-B2DA-4C11-915E-C90B08F57F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3DB6-61B3-41EC-B070-2DB3A1B4F4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497-BBA1-4133-9719-82497B138C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872A-28CD-45D2-9E46-CE5EF6E4AF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234-D001-41E8-B5E4-1F4B18DDE3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461-A11D-453F-9204-099C1420B4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BF87-F8A1-4B70-83DE-5526396BD9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988C-DDA9-4888-B519-E5F2C57B9A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4306-EB3D-4337-A95F-0123C70258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2 Pod ochrano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ajvyššieh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d ochranou Najvyšši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rdce moje, vždy sa t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ko Tvorcu všemocného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|: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nad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ebo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bdi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dobr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ie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:|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d ochranou Najvyšši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 spáse vedie tvoja pú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búrkach žitia pozemsk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dá on ti utonúť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je Pán Boh skrýša tv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moc, stála zášti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o víťaz vyjdeš z boj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ávy jas ťa uvíta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vzdávaj sa svojho ci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 viere vždy pevne st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tom z ruky Stvor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vyrve nik podiel tvoj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48:16Z</dcterms:modified>
  <cp:revision>23</cp:revision>
  <dc:subject/>
  <dc:title>Je veľký náš Pán, on slávy je Kráľ Nech do všetkých strán  spev vrúcnych znie chvál.</dc:title>
</cp:coreProperties>
</file>